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Chapter" id="0">
      <p:sldLst>
        <p:sld r:id="rId6"/>
        <p:sld r:id="rId13"/>
        <p:sld r:id="rId8"/>
        <p:sld r:id="rId7"/>
      </p:sldLst>
    </p:custShow>
    <p:custShow name="ELI Sect 2" id="1">
      <p:sldLst>
        <p:sld r:id="rId4"/>
        <p:sld r:id="rId5"/>
        <p:sld r:id="rId6"/>
        <p:sld r:id="rId8"/>
        <p:sld r:id="rId7"/>
        <p:sld r:id="rId9"/>
        <p:sld r:id="rId10"/>
        <p:sld r:id="rId11"/>
        <p:sld r:id="rId12"/>
        <p:sld r:id="rId13"/>
      </p:sldLst>
    </p:custShow>
    <p:custShow name="ELI Sect 3" id="2">
      <p:sldLst>
        <p:sld r:id="rId3"/>
        <p:sld r:id="rId14"/>
      </p:sldLst>
    </p:custShow>
    <p:custShow name="ELI Sect 4" id="3">
      <p:sldLst>
        <p:sld r:id="rId8"/>
        <p:sld r:id="rId7"/>
      </p:sldLst>
    </p:custShow>
    <p:custShow name="Bellringers" id="4">
      <p:sldLst>
        <p:sld r:id="rId6"/>
      </p:sldLst>
    </p:custShow>
    <p:custShow name="Chapter menu" id="5">
      <p:sldLst>
        <p:sld r:id="rId4"/>
        <p:sld r:id="rId5"/>
        <p:sld r:id="rId6"/>
        <p:sld r:id="rId8"/>
        <p:sld r:id="rId7"/>
        <p:sld r:id="rId9"/>
        <p:sld r:id="rId10"/>
        <p:sld r:id="rId11"/>
        <p:sld r:id="rId12"/>
        <p:sld r:id="rId13"/>
        <p:sld r:id="rId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ean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3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4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2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fe in the Ocean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Chemistry and Marine Lif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Environ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well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28400" y="149868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lagic Zon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ritic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ceanic zon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into the deep waters beyond the continental shelf. It is divided into four zones, based on depth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pelagic zone is the uppermost area of the oceanic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mesopelagic, bathypelagic, and abyssopelagic zones occur at increasingly greater depth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Environm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marine environment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9" descr="Untitled-4 copy"/>
          <p:cNvPicPr/>
          <p:nvPr/>
        </p:nvPicPr>
        <p:blipFill>
          <a:blip r:embed="rId1"/>
          <a:stretch/>
        </p:blipFill>
        <p:spPr>
          <a:xfrm>
            <a:off x="885960" y="2209680"/>
            <a:ext cx="741996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Environm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pwelling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69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arine organisms alter the chemistry of ocean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plankton can be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foundation of life in the ocea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jor zones of life in the ocea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ne organisms help maintain the chemical balance of ocean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do this by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a marine organism’s lifetime, the organism absorbs and stores nutrients from the ocean. These nutrients are eventually returned to the water when the organism di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Chemistry and Marine Lif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8760" y="1943280"/>
            <a:ext cx="8229600" cy="39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pwell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pwell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general, all of the elements necessary for life are consumed by organisms near the surface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then released back into the ocean water when organisms die, sink to lower depths, and decay.  Thus, deep water is a storage area for nutrients needed for lif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6840" y="926640"/>
            <a:ext cx="83818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Chemistry and Marine Lif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195552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rine Food Web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ek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nth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lankton are consumed primarily by small marine organisms, which, in turn, become food for larger marine organism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larger animals fall into two group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926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Chemistry and Marine Lif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8760" y="1955520"/>
            <a:ext cx="822960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rine Food Web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ankt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lankton form the base of the complex food webs in the oce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9266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Chemistry and Marine Life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nthic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elagic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mount of sunlight, the water temperature, and the water pressure determines the distribution of marine life within these zone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Environment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nthic Zone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rtidal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organisms that live in the benthic zone live in the shallow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ublittoral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thyal zo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gins at the continental slope and extends to a depth of 4,000 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Environm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nthic Zones,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byssal zon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has no sunligh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it begins at a depth of 4,000 m and extends to a depth of 6,000 m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hadal zon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is confined to the ocean trench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are deeper than 6,000 m below the surface of the water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cean Environment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3-18T15:31:23Z</dcterms:modified>
  <cp:revision>644</cp:revision>
  <dc:subject/>
  <dc:title>No Slide Title</dc:title>
</cp:coreProperties>
</file>